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FE4-DE69-4ACD-AA66-FC425B31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EA8-6C9A-440D-9ADA-030DECD5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D0B-39DE-4104-8EC7-3F54F51E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D06-1F56-4231-A05A-DE5CBFAD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8713-BEE6-4865-8291-530A2009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CA82-BAB7-499A-A12E-9186481A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56F3-47BE-4CE1-B129-7BA69521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9882-E29E-40B6-85CE-350A6A7E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2CF7-8F94-48DF-A1B4-28D1AF3D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CCDD-E140-400A-8495-BE4E0A88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C562-C834-4894-8610-7972478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2F1-DE21-4C3E-A351-78273A12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A7F9-E3C3-4675-A5DC-87A551CF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A477-C78D-439B-8CA6-EC232D6D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31E-386E-4292-85AB-BF2D84AA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3016-7075-4F21-B2A8-C8394FCD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069B-E34B-474A-866F-59F6AFD4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F2DBB-FD70-45E8-8DEE-1453D7D9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4B4F0-BD76-4320-B691-66ACA455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9090D-BC2F-41FB-9047-9049E82E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43765-8026-4DC6-89BE-607A287B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DA988-99F4-491D-B49E-20647D7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581-3D38-40B2-A826-70179E82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265AC-93EF-476B-9DD2-BF54B0A2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BA825-8E9A-49CC-9482-93B558A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159C8-0BF6-4C10-B9E0-E0822D88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5C17F-4367-4B19-8D40-E13C7921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E95E7-842A-4CDE-AD2B-D5C9D84C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AEACB-FE82-4B37-9061-3346AD52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785AE-3EEB-42A6-8F1F-971695B2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0A42-E6D5-49ED-9CD2-1098D90B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BF135-3E9D-4C24-B94C-71BD6ECE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390D-CA95-4D1F-B077-475DC2E2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50D-9240-47B8-9044-A21CFEC9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7630-C682-4BE6-95B9-CC60A4AB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47F7D-C24F-4F06-BE90-DE3A6A2D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E7BC-8203-4E84-B14F-3705AA7E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BD9B-C667-4559-8484-B825F71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5867-4568-4766-B86D-6064E0FD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3F6F-9CBA-4414-84A0-FAD52D0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B413-3F91-4871-8297-F45F138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28D7-E176-470F-9F8A-B22FC0A0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EDCD-D19F-4F26-9F31-AE02E074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136EB-42DD-49FE-B83A-BD2D4AE7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DC2-AA20-43B0-A278-D789517A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20101-2A66-4E54-B8D2-DC0C7357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79DC6-851B-4767-B529-0776E854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F448E-50ED-46BD-B99B-D9B2F3C3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0ED55-B0AE-49D0-9E74-6A8AA92C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35694-45B8-4E72-B96D-EA3E9694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C2D91-F8F3-401C-99B4-9EB148C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DE5AE-0E31-44B3-AA77-A957224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0B391-3F4F-4FB1-ADDE-65F4AA2B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33EE5-4AFA-4D16-A895-8F8C7D03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B42ED-254A-49E1-A10B-6E57C3A6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17E-2358-4AE2-90F0-C7442818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3B00F-37E5-4AE9-BAA1-29F5BEDD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C9B74-B6B7-44DB-BC23-1544FC34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937B3-9439-49DB-9BBB-ABB73385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90F7E-B16B-4C35-BB71-AA13E82F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BB669-8391-4C77-9D57-E286BC74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9D27B-9F40-43F9-938A-0DEE6B34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ABBDF-C2CA-4E04-B2A6-6613D025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9B1DC-4687-4789-A45B-87D9E794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799312-DE1B-4935-92FC-C67495B9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D0298-02A9-4EAB-9AC5-D8F4AD0D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9B8-2B40-49DB-8A23-5C38FD58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46C04-12BE-41D3-8D87-33B03906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EC42B-6C10-4D91-8312-7F518DE5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81ECD-DD7D-45B2-98C6-BC3CB7ED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504A1-9837-47F8-A083-0F261D49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0FAC5-B70A-4BB6-BD09-E3A4EEEE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9C7CE-2388-449E-89C1-E26F14E0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FD22CD-B486-40BA-AE23-6B68EE50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EA6EC-B246-4713-A252-75690C92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11AE2-0F3A-4F4B-A6A2-F5844AAD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02CD0-3A27-4944-8B1E-C0B73C27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14C-7279-4F04-A73D-1ABCA98A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19E87-38C1-4F1B-A0E7-67B532EF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2B1AA-EB41-4683-B028-A009F65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CC8A9E-87FD-402A-8368-3A2A6943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FA0A8F-1EE1-4B54-B034-CE376128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B4056-7A3C-4D96-BD89-4EC9711B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0E4-9CFA-46EB-8FB9-D9CEDE95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BBA7-2766-4528-9A83-12AFCB7272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7B62-A1FC-4EB4-886B-86E5A432E1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53CA-BF84-4421-AB56-6D39358C4D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9CEC-EF4A-44E6-86B1-F204B9E09B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3247-7F12-4756-95A8-ACFBFE5362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7642-BEB7-4925-9A7F-CF12056446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212E-4BD6-487E-9B5E-FD05587802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714240"/>
            <a:ext cx="69292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7184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entury Schoolbook"/>
              </a:rPr>
              <a:t>и способы его смещения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КОНЦЕНТРАЦИИ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Равновесие сместится </a:t>
            </a:r>
            <a:r>
              <a:rPr b="1" i="1" lang="ru-RU" sz="4000" spc="-1" strike="noStrike">
                <a:solidFill>
                  <a:srgbClr val="7598d9"/>
                </a:solidFill>
                <a:latin typeface="Century Schoolbook"/>
              </a:rPr>
              <a:t>ВПРАВО,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если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Увеличить концентрацию одного из реагирующих веществ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Отводить из зоны реакции продук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ДАВЛЕНИЯ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9680" y="1983960"/>
            <a:ext cx="746748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лияние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давления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на состояние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равновесия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проявляется только при наличии в системе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газов !!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428760" y="278604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повышении давления равновесие сдвигается в направлении образования веществ (исходных или продуктов) с меньшим объемом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понижении давления равновесие сдвигается в направлении образования веществ с большим объем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N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2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+ </a:t>
            </a:r>
            <a:r>
              <a:rPr b="1" lang="ru-RU" sz="4300" spc="-1" strike="noStrike">
                <a:solidFill>
                  <a:srgbClr val="cc0000"/>
                </a:solidFill>
                <a:latin typeface="Century Schoolbook"/>
              </a:rPr>
              <a:t>3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H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2    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 </a:t>
            </a:r>
            <a:r>
              <a:rPr b="1" lang="en-US" sz="4300" spc="-1" strike="noStrike">
                <a:solidFill>
                  <a:srgbClr val="006600"/>
                </a:solidFill>
                <a:latin typeface="Century Schoolbook"/>
              </a:rPr>
              <a:t>              </a:t>
            </a:r>
            <a:r>
              <a:rPr b="1" lang="ru-RU" sz="4300" spc="-1" strike="noStrike">
                <a:solidFill>
                  <a:srgbClr val="cc0000"/>
                </a:solidFill>
                <a:latin typeface="Century Schoolbook"/>
              </a:rPr>
              <a:t>2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NH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3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+ Q </a:t>
            </a:r>
            <a:br>
              <a:rPr sz="4300"/>
            </a:b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4508280"/>
            <a:ext cx="727092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При </a:t>
            </a:r>
            <a:r>
              <a:rPr b="1" lang="ru-RU" sz="4000" spc="-1" strike="noStrike" u="sng" baseline="-25000">
                <a:solidFill>
                  <a:srgbClr val="000000"/>
                </a:solidFill>
                <a:uFillTx/>
                <a:latin typeface="Century Schoolbook"/>
              </a:rPr>
              <a:t>повышении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 давления равновесие сместится туда, где молей </a:t>
            </a:r>
            <a:r>
              <a:rPr b="1" lang="ru-RU" sz="4000" spc="-1" strike="noStrike" u="sng" baseline="-25000">
                <a:solidFill>
                  <a:srgbClr val="000000"/>
                </a:solidFill>
                <a:uFillTx/>
                <a:latin typeface="Century Schoolbook"/>
              </a:rPr>
              <a:t>меньше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(где объемов меньше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7" descr="ravnoves_01"/>
          <p:cNvPicPr/>
          <p:nvPr/>
        </p:nvPicPr>
        <p:blipFill>
          <a:blip r:embed="rId1"/>
          <a:stretch/>
        </p:blipFill>
        <p:spPr>
          <a:xfrm>
            <a:off x="324000" y="1844640"/>
            <a:ext cx="8497800" cy="2701800"/>
          </a:xfrm>
          <a:prstGeom prst="rect">
            <a:avLst/>
          </a:prstGeom>
          <a:ln w="0">
            <a:noFill/>
          </a:ln>
        </p:spPr>
      </p:pic>
      <p:sp>
        <p:nvSpPr>
          <p:cNvPr id="379" name="Line 4"/>
          <p:cNvSpPr/>
          <p:nvPr/>
        </p:nvSpPr>
        <p:spPr>
          <a:xfrm>
            <a:off x="4211640" y="836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"/>
          <p:cNvSpPr/>
          <p:nvPr/>
        </p:nvSpPr>
        <p:spPr>
          <a:xfrm flipH="1">
            <a:off x="4211280" y="1052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785880" y="1071720"/>
            <a:ext cx="20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1430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5786280" y="114300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28400" y="1071360"/>
            <a:ext cx="37861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Катализаторы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не влияют на положение равновесия!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http://www.infinitiparts.ru/user_imgs/508563_infiniti_qx56_tuning.jpg"/>
          <p:cNvPicPr/>
          <p:nvPr/>
        </p:nvPicPr>
        <p:blipFill>
          <a:blip r:embed="rId1"/>
          <a:stretch/>
        </p:blipFill>
        <p:spPr>
          <a:xfrm>
            <a:off x="4286160" y="642960"/>
            <a:ext cx="3975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00"/>
                </a:solidFill>
                <a:latin typeface="Century Schoolbook"/>
              </a:rPr>
              <a:t>ШВЕДСКИЙ УЧЕНЫЙ СВАНТЕ АРРЕНИУС(1859-1927)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916280"/>
            <a:ext cx="4751280" cy="452592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1887 году создал теорию ЭД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1903году был удостоен Нобелевской преми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"За чрезвычайные заслуги в развитии химии"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624640" y="1700280"/>
            <a:ext cx="3124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3499920"/>
            <a:ext cx="33112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КАБЛУКОВ И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А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4" descr="Каблуков"/>
          <p:cNvPicPr/>
          <p:nvPr/>
        </p:nvPicPr>
        <p:blipFill>
          <a:blip r:embed="rId1"/>
          <a:stretch/>
        </p:blipFill>
        <p:spPr>
          <a:xfrm>
            <a:off x="250920" y="260280"/>
            <a:ext cx="3397320" cy="2954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Кистяковский"/>
          <p:cNvPicPr/>
          <p:nvPr/>
        </p:nvPicPr>
        <p:blipFill>
          <a:blip r:embed="rId2"/>
          <a:stretch/>
        </p:blipFill>
        <p:spPr>
          <a:xfrm>
            <a:off x="4500720" y="404640"/>
            <a:ext cx="3429000" cy="25956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8"/>
          <p:cNvSpPr/>
          <p:nvPr/>
        </p:nvSpPr>
        <p:spPr>
          <a:xfrm>
            <a:off x="4643280" y="3214800"/>
            <a:ext cx="4176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Times New Roman"/>
              </a:rPr>
              <a:t>Кистяковский В.А.</a:t>
            </a:r>
            <a:r>
              <a:rPr b="0" lang="ru-RU" sz="4000" spc="-1" strike="noStrike">
                <a:solidFill>
                  <a:srgbClr val="575f6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Прямоугольник 5"/>
          <p:cNvSpPr/>
          <p:nvPr/>
        </p:nvSpPr>
        <p:spPr>
          <a:xfrm>
            <a:off x="714240" y="3929040"/>
            <a:ext cx="707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химики И.А.Каблуков и В.А.Кистяковский применили к объяснению электролитической диссоциации химическую теорию растворов Д.И.Менделеева и доказали, что при растворении электролита происходит химическое взаимодействие растворенного вещества с водой, которое приводит к образованию гидратов, а затем они диссоциируют на и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8360" y="2349000"/>
            <a:ext cx="8229600" cy="324036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Электролиты в водной среде (и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плавленном состоянии) распадаютс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положительно заряженные ионы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катионы) и отрицательно заряженны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оны (анионы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23640" y="2420640"/>
            <a:ext cx="8373960" cy="381636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Беспорядочное движение ионов в растворе под действием электрического поля становится направленным: положительно заряженные ионы (катионы) движутся к электроду с отрицательным зарядом (катоду), а анионы – к анод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Диссоциация – обратимый процесс: параллельно с распадом молекул на ионы (диссоциацией) протекает процесс соединения ионов (ассоциация). Поэтому в уравнениях электролитической диссоциации вместо знака равенства ставят знак обратим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en-US" sz="3600" spc="-1" strike="noStrike">
                <a:solidFill>
                  <a:srgbClr val="d2611c"/>
                </a:solidFill>
                <a:latin typeface="Century Schoolbook"/>
              </a:rPr>
              <a:t>NaCl       Na</a:t>
            </a:r>
            <a:r>
              <a:rPr b="1" lang="en-US" sz="3600" spc="-1" strike="noStrike" baseline="30000">
                <a:solidFill>
                  <a:srgbClr val="d2611c"/>
                </a:solidFill>
                <a:latin typeface="Century Schoolbook"/>
              </a:rPr>
              <a:t>+ </a:t>
            </a:r>
            <a:r>
              <a:rPr b="1" lang="en-US" sz="3600" spc="-1" strike="noStrike">
                <a:solidFill>
                  <a:srgbClr val="d2611c"/>
                </a:solidFill>
                <a:latin typeface="Century Schoolbook"/>
              </a:rPr>
              <a:t>+ Cl</a:t>
            </a:r>
            <a:r>
              <a:rPr b="1" lang="en-US" sz="3600" spc="-1" strike="noStrike" baseline="30000">
                <a:solidFill>
                  <a:srgbClr val="d2611c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Line 4"/>
          <p:cNvSpPr/>
          <p:nvPr/>
        </p:nvSpPr>
        <p:spPr>
          <a:xfrm>
            <a:off x="3357720" y="4143240"/>
            <a:ext cx="576000" cy="0"/>
          </a:xfrm>
          <a:prstGeom prst="line">
            <a:avLst/>
          </a:prstGeom>
          <a:ln w="38160">
            <a:solidFill>
              <a:srgbClr val="d261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3357360" y="4357800"/>
            <a:ext cx="502920" cy="0"/>
          </a:xfrm>
          <a:prstGeom prst="line">
            <a:avLst/>
          </a:prstGeom>
          <a:ln w="38160">
            <a:solidFill>
              <a:srgbClr val="d261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r>
              <a:rPr b="0" i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Состояние равновесия характерно для обратимых химических реакций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братимая реакц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- химическая реакция, которая при одних и тех же условиях может идти в прямом и в обратном направления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еобратимо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называется реакция, которая идет практически до конца в одном направлении.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2700"/>
            </a:br>
            <a:r>
              <a:rPr b="1" lang="ru-RU" sz="27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642680"/>
            <a:ext cx="8229600" cy="441180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епень электролитической диссоциации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зависит от природы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лектролита и растворителя, температуры и концентрации. Она показывает отношение числа молекул, распавшихся на ионы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 общему числу молекул, введенных в раствор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5" descr="n331"/>
          <p:cNvPicPr/>
          <p:nvPr/>
        </p:nvPicPr>
        <p:blipFill>
          <a:blip r:embed="rId1"/>
          <a:stretch/>
        </p:blipFill>
        <p:spPr>
          <a:xfrm>
            <a:off x="324000" y="3571920"/>
            <a:ext cx="71056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Century Schoolbook"/>
              </a:rPr>
              <a:t>СИЛЬНЫЕ ЭЛЕКТРОЛИТЫ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00040" y="1142640"/>
            <a:ext cx="8229600" cy="142884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ещества с ионными или сильно полярными связя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се хорошо растворимые соли, сильные кислоты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C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B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I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Cl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N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 и сильные основания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i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b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s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В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С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 flipV="1" rot="10800000">
            <a:off x="428400" y="292788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Слабые электрол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2960" y="3357720"/>
            <a:ext cx="74293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с неполярными и малополярными связя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почти все органические кислоты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некоторые неорганические кислоты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почти все малорастворимые в воде соли, основания и гидроксид аммония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857240"/>
            <a:ext cx="8229600" cy="185760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Свойства ионов резко отличаются 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йств нейтральных атом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яющих их элементов. Ионы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дных растворах гидратирова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642960" y="3643200"/>
            <a:ext cx="73580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Типы реакций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о всех обратимых реакциях скорость прямой реакции уменьшается, скорость обратной реакции возрастает до тех пор, пока обе скорости не станут равными и не установится состояние равновес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13" descr="ravnoves"/>
          <p:cNvPicPr/>
          <p:nvPr/>
        </p:nvPicPr>
        <p:blipFill>
          <a:blip r:embed="rId1"/>
          <a:stretch/>
        </p:blipFill>
        <p:spPr>
          <a:xfrm>
            <a:off x="714240" y="2357280"/>
            <a:ext cx="62866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42960" y="4996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- состояние системы, в котором скорость прямой реакции равна скорости обратной реакци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17"/>
          <p:cNvPicPr/>
          <p:nvPr/>
        </p:nvPicPr>
        <p:blipFill>
          <a:blip r:embed="rId1"/>
          <a:stretch/>
        </p:blipFill>
        <p:spPr>
          <a:xfrm>
            <a:off x="857160" y="2000160"/>
            <a:ext cx="7188120" cy="221472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3"/>
          <p:cNvSpPr/>
          <p:nvPr/>
        </p:nvSpPr>
        <p:spPr>
          <a:xfrm>
            <a:off x="785880" y="4357800"/>
            <a:ext cx="72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центрации всех веществ в состоянии равновесия (равновесные концентрации) постоян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имическое равновесие имеет динамический характер. Это значит, что и прямая и обратная реакции при равновесии не прекраща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42560" y="428400"/>
            <a:ext cx="40719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мещение равновесия в нужном направлении достигается изменением условий реакции (</a:t>
            </a: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принцип Ле-Шатель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Century Schoolbook"/>
              </a:rPr>
              <a:t>Принцип Ле-Шатель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-Если на систему, находящуюся в состоянии равновесия, оказать внешнее воздействие, то система перейдет в другое состояние так, чтобы уменьшить эффект внешнего воздействия.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SHATELIE"/>
          <p:cNvPicPr/>
          <p:nvPr/>
        </p:nvPicPr>
        <p:blipFill>
          <a:blip r:embed="rId1"/>
          <a:stretch/>
        </p:blipFill>
        <p:spPr>
          <a:xfrm>
            <a:off x="4572000" y="500040"/>
            <a:ext cx="40006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ля одностадийной обратимой реакци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и равновесии выражения для скоростей прямо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и обратной реакци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имеют вид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де [a], [b], [c] и [d] - равновесные молярные концентрации веществ a, b, c и d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a,b,c и d - соответствующие стехиометрические коэффициенты (при условии, что реакция идет в одну стадию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k1 и k2 -коэффициенты пропорциональности, называемые </a:t>
            </a:r>
            <a:r>
              <a:rPr b="1" lang="ru-RU" sz="2800" spc="-1" strike="noStrike" u="sng">
                <a:solidFill>
                  <a:srgbClr val="7598d9"/>
                </a:solidFill>
                <a:uFillTx/>
                <a:latin typeface="Century Schoolbook"/>
              </a:rPr>
              <a:t>константами скорост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1" descr="Равновесная реакция"/>
          <p:cNvPicPr/>
          <p:nvPr/>
        </p:nvPicPr>
        <p:blipFill>
          <a:blip r:embed="rId1"/>
          <a:stretch/>
        </p:blipFill>
        <p:spPr>
          <a:xfrm>
            <a:off x="1500120" y="857160"/>
            <a:ext cx="4613400" cy="507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Скорости прямой и обратной реакций"/>
          <p:cNvPicPr/>
          <p:nvPr/>
        </p:nvPicPr>
        <p:blipFill>
          <a:blip r:embed="rId2"/>
          <a:stretch/>
        </p:blipFill>
        <p:spPr>
          <a:xfrm>
            <a:off x="785880" y="2500200"/>
            <a:ext cx="785808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ТЕМПЕРАТУРЫ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еакции, сопровождающиеся выделением теплоты, называются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entury Schoolbook"/>
              </a:rPr>
              <a:t>экзотермически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еакции, сопровождающиеся поглощением теплоты, называются </a:t>
            </a:r>
            <a:r>
              <a:rPr b="1" lang="ru-RU" sz="2800" spc="-1" strike="noStrike" u="sng">
                <a:solidFill>
                  <a:srgbClr val="7598d9"/>
                </a:solidFill>
                <a:uFillTx/>
                <a:latin typeface="Century Schoolbook"/>
              </a:rPr>
              <a:t>эндотермически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ждой обратимой реакции одно из направлений отвечает экзотермическому процессу, а другое - эндотермическому.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ТЕМПЕРАТУРЫ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5" descr="r23"/>
          <p:cNvPicPr/>
          <p:nvPr/>
        </p:nvPicPr>
        <p:blipFill>
          <a:blip r:embed="rId1"/>
          <a:stretch/>
        </p:blipFill>
        <p:spPr>
          <a:xfrm>
            <a:off x="324000" y="2276640"/>
            <a:ext cx="8569080" cy="9982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8353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тобы сместить равновес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прав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(для экзотермической реакции)---</a:t>
            </a:r>
            <a:r>
              <a:rPr b="1" lang="ru-RU" sz="2400" spc="-1" strike="noStrike">
                <a:solidFill>
                  <a:srgbClr val="7598d9"/>
                </a:solidFill>
                <a:latin typeface="Century Schoolbook"/>
              </a:rPr>
              <a:t>нужно понизить температу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 для эндотермической---наоборот,</a:t>
            </a:r>
            <a:r>
              <a:rPr b="1" lang="ru-RU" sz="2400" spc="-1" strike="noStrike">
                <a:solidFill>
                  <a:srgbClr val="7598d9"/>
                </a:solidFill>
                <a:latin typeface="Century Schoolbook"/>
              </a:rPr>
              <a:t>повысить температур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8T05:48:41Z</dcterms:modified>
  <cp:revision>30</cp:revision>
  <dc:subject/>
  <dc:title>PowerPoint Presentation</dc:title>
</cp:coreProperties>
</file>